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C78ED-C934-471D-A2FC-F81C10335A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DA9B-F5F2-4E4A-A7EA-1B3CF4EC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D7BAB-3416-4261-A40A-5EC8FBC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7A84-3DC3-44DD-93D7-A63FB47E92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5282-6180-413E-8D7C-54B789AF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2243-304F-403B-85AB-E6A960AB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F1B96-264A-4CF5-94F0-D1D358C6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9341-740D-40CD-B117-CD6E4AA9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5AE5B-33A6-496B-BAD1-62411033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5B58-96A0-4F2C-83FB-EE10FBCE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9411-70C8-4EB9-AE6C-080AF7A1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C08B-E924-4311-89EB-4BE6E231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09AF-BE95-498E-B3C1-B25AC5BFDD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9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关节脱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髋关节脱位合并髋臼骨折，入院后行左髋关节切开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手术后如何进行患肢固定？②如何进行功能锻练指导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关节脱位引起局部组织损伤及神经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关节脱位后功能障碍、疼痛、制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管、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的复位和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疼痛刺激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物理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05840" indent="-2008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53760" indent="-2512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正确的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肩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shoulder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占全身关节脱位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，常合并肱骨大结节撕脱性骨折，严重者可合并肩袖的撕裂及臂丛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肩部疼痛，周围软组织肿胀，主动和被动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80" y="1413000"/>
            <a:ext cx="90961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肩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臂有明显的外展内旋畸形，并弹性固定于畸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，在空虚的关节盂外可触及肱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搭肩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关节脱位的病因、分类、概念、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肩关节、肘关节、髋关节脱位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关节脱位患者患肢功能锻炼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关节脱位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2" descr="图32-1 手牵足蹬法"/>
          <p:cNvPicPr/>
          <p:nvPr/>
        </p:nvPicPr>
        <p:blipFill>
          <a:blip r:embed="rId1"/>
          <a:srcRect l="0" t="0" r="2463" b="0"/>
          <a:stretch/>
        </p:blipFill>
        <p:spPr>
          <a:xfrm>
            <a:off x="1619280" y="1413000"/>
            <a:ext cx="6316560" cy="4292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3495240" y="5337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牵足蹬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肩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肘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elbow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肘部常见的损伤，多为运动损伤，脱位容易合并周围骨折和神经血管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由间接暴力所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脱位的方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、侧方脱位、前脱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局部肿胀、疼痛，伸屈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肘关节后脱位，肘后方空虚，鹰嘴向后突出明显；侧方脱位时，肘部呈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肘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或外翻畸形，肘后三角关系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肘关节脱位的方向、有无合并骨折，检查肘关节脱位整复后的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肘关节脱位主要治疗方法为手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肘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髋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 of hip join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同时合并有骨折。髋关节脱位多由间接暴力引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髋关节疼痛、肿胀、活动受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不同方向的脱位体征有所区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脱位：患肢轻度屈髋，明显外旋、外展畸形。偶尔可引起股动、静脉的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脱位：患肢呈屈曲、内收、内旋及短缩畸形，臀部可触及向后上方突出的股骨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定髋关节脱位的方向、有无合并髋臼或股骨头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关节内有无残留的骨软骨碎片及有无髋臼骨折等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79280" y="1371240"/>
            <a:ext cx="8731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：新鲜髋关节脱位，应立即实施手法复位。最常用的方法是提拉法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l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法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：闭合复位失败、陈旧性脱位采用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" name="Picture 2" descr="图32-2 Allis法"/>
          <p:cNvPicPr/>
          <p:nvPr/>
        </p:nvPicPr>
        <p:blipFill>
          <a:blip r:embed="rId1"/>
          <a:stretch/>
        </p:blipFill>
        <p:spPr>
          <a:xfrm>
            <a:off x="1908000" y="1557360"/>
            <a:ext cx="5322960" cy="43639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3681720" y="553716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lli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法复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髋关节脱位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与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创伤、关节的疾病因素、关节先天性发育不良和习惯性脱位有关，创伤是最常见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关节部位疼痛、肿胀、功能障碍，局部畸形、弹性固定和关节盂空虚。肩关节脱位后呈“方肩”畸形，上臂有明显的外展内旋畸形，搭肩试验阳性；肘关节脱位肘后三角关系改变，肘关节弹性固定于半伸直位；髋关节后脱位患肢呈屈曲、内收、内旋及短缩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82240" y="1360080"/>
            <a:ext cx="8682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复位，以手法复位为主；固定；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护士要关注患者的心理反应。妥善复位和固定。观察患肢末梢皮肤颜色、温度、肿胀情况、感觉和运动情况等有无异常。加强术后切口观察护理。缓解患者疼痛和保持皮肤完整性，促进舒适。指导患者正确的功能锻炼，恢复自理能力。向患者或家属讲解关节脱位的相关知识，使其了解并主动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关节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isloc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由于暴力作用于关节，或关节遭到病理性改变，使组成关节各骨关节面失去正常的对合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失去部分正常对合关系的称半脱位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blux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导致左髋部疼痛、肿胀、畸形和功能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左下肢呈屈曲、内收、内旋及短缩畸形，臀部可触及向后上方突出的股骨头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髋关节脱位合并髋臼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处疼痛和压痛，局部肿胀，关节失去正常活动功能，出现功能障碍表现为关节疼痛、肿胀、局部压痛及功能障碍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弹性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盂空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相关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关节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脱位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包括手法复位和手术切开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12:47Z</dcterms:modified>
  <cp:revision>114</cp:revision>
  <dc:subject/>
  <dc:title>内科护理学</dc:title>
</cp:coreProperties>
</file>